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BD7-4076-4DC5-B96B-255E57B3B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68E-84F2-4AC8-90F9-C3B5E4851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147A-8922-4F12-8D67-2452935C71E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F31-8CD3-49F4-BC10-369A7CAE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217-77BD-42E0-967F-E838A3F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E64-743F-425B-9BFF-2F454624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3E0-1779-4367-8A71-965B0571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6FCF-3015-409D-A584-7D447E37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6706-B4ED-4E7B-B0DC-4CA9F34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EFCA-4753-4794-BC20-91575713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3DB9-8BC4-4CF6-9AAC-DE04EA0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3A47-A6DB-4A48-9961-B6CB21EB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59B-0031-4947-8B07-B28D5D9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3989-1290-40EA-BBFD-204DC83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704-CAD7-454D-80B5-625A3AB2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13D-5AB3-4BEB-82FB-5D2CB64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F87-FED8-4BA1-8F9A-9DE4E67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6C1E-41E8-4040-92E9-C398B9D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7F9-7DD9-40D0-959A-2499C71A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203-C001-4E8D-BEA3-E181504F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4A4-C57A-4D72-BFA4-41E58163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021-02E6-4A11-855C-56C8548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4BE-48FD-4FB4-9CAC-14CE2F8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848-4EBD-451C-A714-8B404E65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D33-E907-4D8E-9FEB-71296B7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0D4-651C-4DAC-8168-947C395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2BA-F0CF-4D7D-BAE3-D18BC91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B764-536D-4B04-BA00-6D9A972BF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E96-B33D-4F2E-8720-1154D002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Light, Temperature, Air, and Water Effects on Pl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t’s ability to withstand low temperatures is called it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ardin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hardy plant can survive in a cold clima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area of the country is assigned a zone number (1 to 10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diness zones are derived from the average coldest temperatures for the ye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647720" y="257040"/>
            <a:ext cx="584856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t affects on pl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86°F plants are unable to process water fast enough to maintain normal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used to cre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lant heat-zone m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p shows 12 z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il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e water faster than it can be repl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an exchange of gases, photosynthesis shut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0481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eratures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781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contains carbon dioxide and oxygen, both of which are necessary for plant grow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necessary for cellular respi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ed up mainly by the ro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bon dioxide is used for photosynthe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ed up mainly by the lea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174"/>
          <p:cNvPicPr/>
          <p:nvPr/>
        </p:nvPicPr>
        <p:blipFill>
          <a:blip r:embed="rId1"/>
          <a:stretch/>
        </p:blipFill>
        <p:spPr>
          <a:xfrm>
            <a:off x="6500880" y="4267080"/>
            <a:ext cx="249084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99"/>
          <p:cNvPicPr/>
          <p:nvPr/>
        </p:nvPicPr>
        <p:blipFill>
          <a:blip r:embed="rId2"/>
          <a:stretch/>
        </p:blipFill>
        <p:spPr>
          <a:xfrm>
            <a:off x="2590920" y="4648320"/>
            <a:ext cx="2844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um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is water vapor in the air, affects plant growt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humidity = increased growth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photosynthesis function smooth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humidity = stress on the pl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drawback of excessive humidity is the increase of leaf and flower dis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231"/>
          <p:cNvPicPr/>
          <p:nvPr/>
        </p:nvPicPr>
        <p:blipFill>
          <a:blip r:embed="rId1"/>
          <a:stretch/>
        </p:blipFill>
        <p:spPr>
          <a:xfrm>
            <a:off x="2743200" y="4495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st in the air can reduce light intensity slowing photosyn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 pollutants, such as sulfur dioxide and ozone, can actually kill plant cells or the entire pl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232"/>
          <p:cNvPicPr/>
          <p:nvPr/>
        </p:nvPicPr>
        <p:blipFill>
          <a:blip r:embed="rId1"/>
          <a:stretch/>
        </p:blipFill>
        <p:spPr>
          <a:xfrm>
            <a:off x="2666880" y="3787920"/>
            <a:ext cx="4267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receive most water through the 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processes (photosynthesis and respiration) of plants depend on wa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als are only absorbed if they are dissolved in wat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ter also comprises a large percentage of the plant cells, tissues, and org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68"/>
          <p:cNvPicPr/>
          <p:nvPr/>
        </p:nvPicPr>
        <p:blipFill>
          <a:blip r:embed="rId1"/>
          <a:stretch/>
        </p:blipFill>
        <p:spPr>
          <a:xfrm>
            <a:off x="3505320" y="5029200"/>
            <a:ext cx="2438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ing of watering is critical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frequent = soil too w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aged plant roots caused by the lack of goo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enough = root deat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er the quality of the cr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105"/>
          <p:cNvPicPr/>
          <p:nvPr/>
        </p:nvPicPr>
        <p:blipFill>
          <a:blip r:embed="rId1"/>
          <a:stretch/>
        </p:blipFill>
        <p:spPr>
          <a:xfrm>
            <a:off x="6248520" y="16002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ts in containe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s should have drainage hol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water to drai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oxygen into the root z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od rule of thum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ter plants thoroughly only when soil is d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31"/>
          <p:cNvPicPr/>
          <p:nvPr/>
        </p:nvPicPr>
        <p:blipFill>
          <a:blip r:embed="rId1"/>
          <a:stretch/>
        </p:blipFill>
        <p:spPr>
          <a:xfrm>
            <a:off x="327672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52280" y="152280"/>
            <a:ext cx="76201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the effect of light on plant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a plant’s temperature need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plain how the quality of air affects plant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a plant’s water need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ter should have a favorable pH rang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8 to 6.2 is best for most plant growt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ter should have a desirable range of soluble sal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Soluble salt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dissolved mineral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 levels of soluble salts damages roo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111"/>
          <p:cNvPicPr/>
          <p:nvPr/>
        </p:nvPicPr>
        <p:blipFill>
          <a:blip r:embed="rId1"/>
          <a:stretch/>
        </p:blipFill>
        <p:spPr>
          <a:xfrm>
            <a:off x="2762280" y="4656240"/>
            <a:ext cx="34862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n emits a wide range of rad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we see = visible lig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ble light drives photosyn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nlight contains a complete blend of all visible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ts need mostly the colors blue and red to activate the chlorophy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7" descr="222"/>
          <p:cNvPicPr/>
          <p:nvPr/>
        </p:nvPicPr>
        <p:blipFill>
          <a:blip r:embed="rId1"/>
          <a:stretch/>
        </p:blipFill>
        <p:spPr>
          <a:xfrm>
            <a:off x="3048120" y="4724280"/>
            <a:ext cx="27432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colors of light solicit different plant respo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light promotes seed germination, seedling growth, stem elongation, and influence flow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light reduces stem length, increases branching, promotes stem strength, can improve leaf and flower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27"/>
          <p:cNvPicPr/>
          <p:nvPr/>
        </p:nvPicPr>
        <p:blipFill>
          <a:blip r:embed="rId1"/>
          <a:stretch/>
        </p:blipFill>
        <p:spPr>
          <a:xfrm>
            <a:off x="2666880" y="4368960"/>
            <a:ext cx="3753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r-red light triggers a shade avoidance response in plants when levels of blue or red light are 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s stretch and become wea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ves become thinner and wi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reak seed dorm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ntensity impacts plant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ight intensity elevates the rate of photosyn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t is able to produce more f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sity of light depends 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 of the 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u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s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ntensity is greater in the sum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224"/>
          <p:cNvPicPr/>
          <p:nvPr/>
        </p:nvPicPr>
        <p:blipFill>
          <a:blip r:embed="rId1"/>
          <a:stretch/>
        </p:blipFill>
        <p:spPr>
          <a:xfrm>
            <a:off x="4300560" y="5105520"/>
            <a:ext cx="270972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25"/>
          <p:cNvPicPr/>
          <p:nvPr/>
        </p:nvPicPr>
        <p:blipFill>
          <a:blip r:embed="rId2"/>
          <a:stretch/>
        </p:blipFill>
        <p:spPr>
          <a:xfrm>
            <a:off x="7620120" y="1523880"/>
            <a:ext cx="125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ts receiving the optimum level of light will be compact and have good leaf colo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ptoms of lower than optimum light levels include a slower growth rate, thin leaves, small flowers, dull leaf and flower color, and etiolation or stretch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periods of cloud cover can slow crop growth and ultimately reduce yield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226"/>
          <p:cNvPicPr/>
          <p:nvPr/>
        </p:nvPicPr>
        <p:blipFill>
          <a:blip r:embed="rId1"/>
          <a:stretch/>
        </p:blipFill>
        <p:spPr>
          <a:xfrm>
            <a:off x="3809880" y="4694400"/>
            <a:ext cx="32004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plants have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otorecept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light-sensitive pigment that absorbs 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plant to respond to amount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the day (amount of light) can influe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phases of plant grow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owe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d germin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largement of lea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bu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227"/>
          <p:cNvPicPr/>
          <p:nvPr/>
        </p:nvPicPr>
        <p:blipFill>
          <a:blip r:embed="rId1"/>
          <a:stretch/>
        </p:blipFill>
        <p:spPr>
          <a:xfrm>
            <a:off x="5562720" y="4130640"/>
            <a:ext cx="32004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change depending on the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temps = smaller leaves in lighter colors with thicker cu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temps = growing lower to the ground with short life cycles and parabolic dish-shaped flowers to collect light and he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prefer temperatures between 32°F to 100°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228"/>
          <p:cNvPicPr/>
          <p:nvPr/>
        </p:nvPicPr>
        <p:blipFill>
          <a:blip r:embed="rId1"/>
          <a:stretch/>
        </p:blipFill>
        <p:spPr>
          <a:xfrm>
            <a:off x="1447920" y="4968720"/>
            <a:ext cx="2133360" cy="188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229"/>
          <p:cNvPicPr/>
          <p:nvPr/>
        </p:nvPicPr>
        <p:blipFill>
          <a:blip r:embed="rId2"/>
          <a:stretch/>
        </p:blipFill>
        <p:spPr>
          <a:xfrm>
            <a:off x="5181480" y="4648320"/>
            <a:ext cx="25909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31:35Z</dcterms:created>
  <dc:creator>Lindi Kocher</dc:creator>
  <dc:description/>
  <cp:keywords/>
  <dc:language>en-US</dc:language>
  <cp:lastModifiedBy>Alicia Burge</cp:lastModifiedBy>
  <dcterms:modified xsi:type="dcterms:W3CDTF">2011-03-31T01:06:00Z</dcterms:modified>
  <cp:revision>71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